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DC4-0198-4A50-AB17-BFB1432D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643-C99C-4B03-8F62-C718F01A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CA640-D00C-4C34-BCF8-5C3489C7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2DF6F-6B5D-42FC-B44E-9503ABF9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50290-1F43-4D8C-80DA-806FB9B4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08F0B-49D2-48F5-BE1D-FD21362B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6302C-8963-4082-A6E6-2F1631B8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1E28E-7287-406D-908F-35B11BDA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56987-1A60-4853-B06F-69EF4949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54046-7A4B-4953-A311-18FCFDB8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19E68-E038-437E-9D95-E206266B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8A436-C3F3-431F-B873-61CBA5A0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BFC-F5EB-433F-9AA7-89100916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41534-F63E-49A2-B3E8-2CF2DEDB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98E64-A015-453C-BE14-25798564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7CE35-4CBC-46A5-96F3-8CFABC2B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0BE13-CFE0-49D7-B915-4D39F4A2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F6C41-C610-44A4-A547-930087EF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985AC-3593-4A30-AC4F-716696FF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445A9-443E-4389-AE9A-992C51A3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4EDAC-58B6-4752-97B4-BE6905F6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90B10-0E06-4AFC-9330-45041010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37997-9BFD-4743-BE2D-57AF8264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0E1-4AF2-48FB-801D-0E7786BC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8771E-7EEC-490D-A557-69928FF5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B7A33-9775-4E54-B8A0-5A9E9E4E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7F970-0928-4B64-94E7-43424419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F6FE6-6BF4-4075-AA97-D807987A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02A36-FAAD-48F2-9134-3CC0D126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AB8BC-E0D9-45DE-BEBF-367D834A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E2681-4217-4CE7-8A90-95D11D1A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9FB3F-CF32-4140-8D62-129121C1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247E8-B210-42D8-B897-372C540E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423A3-B410-46ED-9E03-4A42C478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85F0-433B-4FDB-9184-8C6CAAD4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A11F8-A206-4E68-88AE-4B1F3737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84AFC-773A-454B-AC7E-734BFE70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4B56E-E623-4035-B3A3-0BA685D3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CC9E0-7ACB-43F0-ADC9-ABD71BE1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2A8FF-0D53-42FD-924D-7CD3D9DC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75D4F-D667-44DB-8293-A39DD2CA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4CE33-3440-41F6-9A11-7CC9EF9C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B4DAC-7D42-4B34-8EA1-D725BC27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DDD05-2BD8-4321-8101-2D1C35E0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E8695-E290-46D3-A6F0-B6D6F0AC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84AB-C31D-408B-B26B-00D16C4F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E40AF-AB05-4B3A-B412-C08A8AD5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634F2-979D-44D7-9B1D-F6CF692A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82594-FCA3-460F-957F-A6241736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3ABF9-B533-4A6F-AAF2-93ACCCC5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7C7A4-9881-4E83-8578-4ABDE663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2280-4FE5-45C4-9205-86265CE6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4871-F81A-4684-A925-8FC14A9A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EB51-9F7F-4F17-B69F-A4C1ACA7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AAC8-728F-4D5F-9403-24865FFB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41C0-A144-414E-9F5D-CE69FCC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BC0-2C6F-4FC6-AF17-EB571973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A5E0-BDD6-4AB0-8826-CEA0A792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2628-483E-4A05-A693-2A29ED6B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73BC-EF85-4088-8897-098C5177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A67E-5844-4F87-8411-4F737482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ECB8-B618-412D-B074-934D45C1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6222-BCB4-4351-B1E8-584B802B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9A40-0626-4F01-9DA2-EE928704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91F93-8DD8-44B6-A00A-3C91D7AE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F514-5E39-4F3A-A05D-7506DED4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D4AA-8C61-4433-8CA7-9622FF16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372-64C6-45FB-9C1D-DF7DE152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CED1-0B3D-4C04-A969-F107EF0B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D95A-2771-41FE-B40D-57CA30BD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AD98-85E7-4F02-AE53-FC7D88C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98C8-122B-4F92-A3E5-267E47FC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A6D5-EDE5-4A46-9E78-C4769551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43BB-8554-43AD-B845-1E809A18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034E-5466-44BA-9B43-85F86E9A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A9B5A-C8B6-4C47-9A6D-E81658E1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F3AD-101F-4D3E-897B-1405D09F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1903E-3792-4E56-8BFD-46D2D842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AF5-5087-4FE0-BAC1-5E08D83D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88A9-16FE-4B19-9D44-9F4E4785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1EFFB-9297-4701-B39A-B4A2AE59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8EE6-FDCE-48E4-863C-B31DD001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FD8B4-1264-42A1-B251-E74DF3BC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03092-2FF0-454E-80E0-D4038B12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A34F8-45FA-4DB1-8B15-B06B2A0A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8A8B-621C-41D8-A3E1-00D4B35F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BABD4-0B1E-40B5-A4E5-F57B2A85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2CA01-8F24-4D12-8CB6-C5DB7747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228CE-4C9B-49AD-ADF7-C21B588E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CFF-1BEC-428C-BFC1-5F1CE5AC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A4F88-2963-4928-BA0E-F7BA5569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EE697-2510-43F8-BB4F-96834403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4F52B-B9A5-4577-B174-72C0045E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45626-8C4F-4BAE-AB83-DF609D40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25A3B-346B-494F-9371-8E75E274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AD4F7-0627-4BF4-BA6D-A6CD4B25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6D64E-470D-4F69-9196-432882C7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2E8EC-9401-42E6-85D7-F51428E4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F4417-E5DA-4884-BDF3-87E04A61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139B2-4F50-44B8-B5C5-430D693B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1AC-10BC-4615-93ED-D17CBAA3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44166-D4BA-48C3-A9DF-A607488E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92755-BD23-4F67-B173-E5C42795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866A3-07F2-455D-8916-E0034172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612E5-3012-420F-9701-4E1B96C6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E61D5-F236-4D66-A35B-9C9DD06C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336AE-B8AA-4343-BEBF-2E00E2DC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2AA66-4979-48E5-88FF-319149D7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19DD9-701F-4608-994E-F50480B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738E3-DAF7-4BE4-856C-74CC3BD9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F6D13-7CD4-4ED3-9AE3-1896CCEB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5E6-A764-41FC-906C-BB727314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7DFD8-527F-4BA4-9962-3098302F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0C203-6A7A-4F8F-B427-F708A9C0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882C2-3C95-42A6-841B-637F2A42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EAED2-BC70-486E-9B03-25E61FE8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3AA01-56E7-4A57-AC36-4F6CFBBD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8FE91-50BE-4027-BE6D-E8A2B0C6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6FB66-D377-4152-A464-EAF8B686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BCC5E-2A82-436F-AE34-87BF9502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DCBBA-C0D3-42BB-9CE6-CC3C3269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B2504-CB88-46AC-AFFE-86017898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0C0-6294-4535-B9BF-F0BC0942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FA74E-7B69-4688-AA0F-AE887AE0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E379D-5379-4C0A-9302-0E5A5B8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E748E-30BD-42CB-9DB5-B7461E87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D8170-F52E-4F3A-9B9A-EABF0E78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CF6F3-02FA-4C83-8205-14B9BBE3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2E0A4-6E06-43F3-89C7-ED78D27E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2911A-5CCE-46A2-BAAC-8A9D3D01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C6176-E83A-4AB6-A136-CA6EF077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47FDA-8D41-491A-868A-57D7ECD5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FA3DA-42FA-4CF8-B178-824439F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7AD-0E0D-4EDD-A927-FF95A14F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EC681-FE1A-4941-B23E-A1CB89E9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A10F1-FC52-4518-B8CE-D4C0CC4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370FA-98E7-469A-9512-6AFC3A4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7D253-A8A6-4B0E-A699-412449EE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2393A-7A9E-44AF-BA2F-536B2191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8A113-0B3A-4332-8F73-BDEFB6FA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DA60E-48AA-480E-B2A5-00457C0B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66FB3-A2BA-4CBB-99B6-95582BE5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CA6BB-6257-4B36-8CE1-0BD5D066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30A92-1976-47C3-943A-7AB947BE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0F31-86B1-4CDF-99FA-419E8689A03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7C7E-B82F-4CB3-BD2A-4FD16E8E917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FD5A-F4AF-4C63-ADE5-4B1AC5FE1C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A1A4-79A9-44DE-9B39-7288C917E2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150B-BBDA-401E-B87D-6FE6B8CBDA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CF22-CF75-4CBF-9F9B-812E87C623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6EA0-38FF-475E-9862-0B2899B23A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CC01-7F9C-4791-89C6-267D0F3EF4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8BEE-59A8-42E7-9AAD-3C068D5389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FE19-EA81-4AD9-AAC1-ED4FF486FA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71E3-6CC3-445B-B032-7211C3B0D1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0E79-6EB7-464F-B5E0-70DED77F8A4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53 Ó, Kriste, v toľkom žia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Ó, Kriste, v toľkom ži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n plný, bole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ak hanbou sa mi kal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 chveje v úzkos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ojou vinou pil s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trpký kalich mú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som dar večnej spás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el prijať z tvojich rú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m ukryť mám sa v bô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stíšiť srdca sto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ina v duši pá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bolestný tvoj sk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vrúcnu prosbu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eň žitia môjho be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voje zľutov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pre mňa spásy bre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ov nemám, hlas mi viaz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it lásky nestačí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prejav toľkej priaz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ím sa ti odvďačí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vojím byť, ó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slabej viere vzl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vojej skry ma dl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rídeš súdiť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mojej viere skal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úri prudký b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záštitou mi stál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íš búrny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neraz ešte ties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esí smrti tieň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 v tebe, večnej Pies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iem slávny spásy de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5T08:52:41Z</dcterms:modified>
  <cp:revision>32</cp:revision>
  <dc:subject/>
  <dc:title>Je veľký náš Pán, on slávy je Kráľ Nech do všetkých strán  spev vrúcnych znie chvál.</dc:title>
</cp:coreProperties>
</file>